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B34-4B86-47E4-B5EA-9032701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99C9-386A-403D-9826-5D61D79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5050-6DCB-4A4D-AC01-F43438C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D90B-9161-4A58-BCEA-573066A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B56-A57B-4542-B668-EC4006B6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F4B-9343-4966-9AEA-086725C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1C8D-2723-4AEC-AD20-B54E68E6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8F3-1893-4F45-AFFB-AFB359B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3CD-300B-48EE-816B-53C43D35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4C6-0BD7-4BFE-A9C4-3464F6A5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AB9-9988-4040-A554-BA12C02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7102-02EC-49E3-9AE8-E2E6818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7CF-614C-4931-AFC0-878458D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4B4-085C-4ED4-BB1B-CE8FF8C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3F0-BBFD-412C-B855-24D67C0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C515-F881-459C-9C8A-5A2F4B2F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CEC-CC0D-4148-8AD7-45D46D14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EE13-E707-495B-B00C-D6AD7ED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9805-64C1-44F5-896C-D89B78A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77AD-A898-4C30-B6B9-15A07D5B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88F3-191F-4C1C-83A9-36D9ACE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5A6C-56BE-4F62-B263-76D30B6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78E2-84A4-4C4D-8841-6DECA50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B8D1-9A75-4689-B905-4A61FE5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C245-E169-4B0D-9F58-ABF32D5BD4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7367-1EB1-420C-AF97-A1F0C880B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nting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5791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715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6400" y="9144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Winter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28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32:01Z</dcterms:created>
  <dc:creator>jnatale</dc:creator>
  <dc:description/>
  <dc:language>en-US</dc:language>
  <cp:lastModifiedBy>jnatale</cp:lastModifiedBy>
  <dcterms:modified xsi:type="dcterms:W3CDTF">2009-02-19T18:31:59Z</dcterms:modified>
  <cp:revision>3</cp:revision>
  <dc:subject/>
  <dc:title>Adding Text</dc:title>
</cp:coreProperties>
</file>